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8280400" cy="4140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3479-4001-4218-8A54-0BE9AC033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9520" y="247428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60F3-84AB-4DF2-9CE5-E71436F0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2856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4C3B-0BBC-4DDC-9EF4-8C7DD8E53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368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9820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952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368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9820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196F-A2B6-45D1-8FBC-358EB2840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98C2-A473-4D91-8670-4BCF42CC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82CA-6241-4AF6-8F0A-E8B93C0A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B5B1-D589-4342-A250-663BEFE0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B570-5B66-4FDC-B6D4-B390C821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69520" y="220680"/>
            <a:ext cx="7140600" cy="370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E12E-FAFF-4B16-B293-5AF3448C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31CD-234A-4533-A5DA-67D7FB75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2856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C93F-B541-4CCC-B9FA-BF72A48E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D5E6-7ACD-41DE-BE1C-BE95A2A6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44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12920" indent="-136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68904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96516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9520" y="3836520"/>
            <a:ext cx="1862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en-US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2840" y="3836520"/>
            <a:ext cx="27939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847840" y="3836520"/>
            <a:ext cx="1862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en-US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9B3DA390-9888-4205-A321-42D3B0F88EB3}" type="slidenum">
              <a:rPr b="0" lang="en-US" sz="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-1511280" y="-801720"/>
            <a:ext cx="10234440" cy="23274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1604880" y="1785960"/>
            <a:ext cx="507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000" spc="-1" strike="noStrike">
                <a:solidFill>
                  <a:srgbClr val="1f4e79"/>
                </a:solidFill>
                <a:latin typeface="Calibri"/>
              </a:rPr>
              <a:t>Davet Met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2"/>
          <a:stretch/>
        </p:blipFill>
        <p:spPr>
          <a:xfrm>
            <a:off x="3730680" y="604800"/>
            <a:ext cx="823680" cy="82404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1604880" y="2998800"/>
            <a:ext cx="507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600" spc="-1" strike="noStrike">
                <a:solidFill>
                  <a:srgbClr val="1f4e79"/>
                </a:solidFill>
                <a:latin typeface="Calibri"/>
              </a:rPr>
              <a:t>İmz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3857760"/>
            <a:ext cx="8294760" cy="28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8"/>
          <p:cNvSpPr/>
          <p:nvPr/>
        </p:nvSpPr>
        <p:spPr>
          <a:xfrm>
            <a:off x="0" y="0"/>
            <a:ext cx="8280360" cy="4138560"/>
          </a:xfrm>
          <a:prstGeom prst="rect">
            <a:avLst/>
          </a:prstGeom>
          <a:solidFill>
            <a:srgbClr val="162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3857760"/>
            <a:ext cx="8294760" cy="28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392040" y="430200"/>
            <a:ext cx="50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392040" y="849240"/>
            <a:ext cx="50688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Lorem ipsum dolor sit amet, consectetur adipiscing eli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Donec laoreet leo maximus sodales volutpa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Proin euismod massa sit amet sagittis efficitu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Aenean sit amet quam commodo, facilisis lectus eget, pellentesque mauri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Donec laoreet leo maximus sodales volutpa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Proin euismod massa sit amet sagittis efficitu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392040" y="3065400"/>
            <a:ext cx="506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Yer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Ege Üniversitesi Kampüsü, Bornova/İZMİR</a:t>
            </a: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Tarih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00 Haziran 2018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Saat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20.3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1"/>
          <a:stretch/>
        </p:blipFill>
        <p:spPr>
          <a:xfrm>
            <a:off x="2200320" y="1854360"/>
            <a:ext cx="6087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2T06:11:59Z</dcterms:created>
  <dc:creator>Microsoft Office User</dc:creator>
  <dc:description/>
  <dc:language>en-US</dc:language>
  <cp:lastModifiedBy>Microsoft Office User</cp:lastModifiedBy>
  <dcterms:modified xsi:type="dcterms:W3CDTF">2018-04-02T06:36:08Z</dcterms:modified>
  <cp:revision>4</cp:revision>
  <dc:subject/>
  <dc:title>PowerPoint Presentation</dc:title>
</cp:coreProperties>
</file>